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38E9-AAA5-4D05-9867-DE785FD642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EA5-B480-4526-8E91-500E8B0A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9A3-989C-46F5-92F1-457CDF22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315-94DC-414A-9A17-EA33B3EB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958-ADC5-4FD3-8456-7B438E22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D9F-503A-420E-A39B-3646604A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8F7-6DE1-4724-BE75-60E22469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389-5228-4167-819C-59F19AC0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69F-39EE-4F7F-9678-5BC26CA8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BE6-C82F-455F-B40E-2F39AA96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93E1-12B5-47C5-9182-B7BA76F1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28A-6E6E-4C70-BC6D-CF554860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9D8-D5E9-4AB5-84CA-43CF5FD3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59DB-7FDA-4098-A085-2BCD14329E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</cp:lastModifiedBy>
  <dcterms:modified xsi:type="dcterms:W3CDTF">2016-12-07T08:32:05Z</dcterms:modified>
  <cp:revision>5</cp:revision>
  <dc:subject/>
  <dc:title>Transport of Materials</dc:title>
</cp:coreProperties>
</file>